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D92-FD70-4663-AAD8-2D7C4C72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9C9-BFE6-4AFE-B3FF-FE273BA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A5E-948F-4BAE-A90A-3CA2814F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A88-9FBD-417E-A5F5-10478CF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A78F-58A7-489C-A7E5-B2ADFC60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6756-2857-4C4C-8042-DF16F2E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243E-F893-47FE-83CD-FD8C213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50F7-468E-422A-8D68-C2C2C0CF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D3B-7D3E-44D7-85DC-1CFFBEF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046-7583-4B6E-8208-1EE3D51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810E-3A93-4524-8EBD-74EDA49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6C3-4275-47CC-8E9F-EE056C17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72EF-E6B5-4B65-B62D-B7D6E84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A37-1916-48BA-96C3-48BE05E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EB4-C946-4128-999D-02B41CEB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0769-6C03-40BB-BF22-38A84EAB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BBA-D8A0-435E-87DE-6E51E6E3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07A-16E5-44F1-9B1F-DCFA959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32D-5C93-46F8-887A-FA7B625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64F-6B9C-439F-BA7A-D9081690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65E-6800-4490-9EAC-E5C8CF75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B8F-6848-4CA0-A3C8-89277FD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998-0FD9-4135-9DB3-E3A19079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EDC-4116-4030-9895-9C0F1C5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C57-B50D-4786-91B8-D686A8E3C7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F69D-D39F-4086-BEED-9B9C63D1EF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e llamo __________ Clase 7 IM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a fecha es el 6 de diciembre del 201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3300"/>
                </a:solidFill>
                <a:latin typeface="Arial"/>
              </a:rPr>
              <a:t>Propósito # 27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ómo repasamos para el Examen de la Unidad 3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3300"/>
                </a:solidFill>
                <a:latin typeface="Arial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Arial"/>
              </a:rPr>
              <a:t>ejercicio 26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p. 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Arial"/>
              </a:rPr>
              <a:t>ejercicio 32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Garamond"/>
              </a:rPr>
              <a:t>Ejercicios: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jercicios 1-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106 (1-15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Y TO DO IT WITHOUT LOOKING IN YOUR NOTES OR BOO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STUDY UNIT 3 FOR EXAM ON FRIDAY DECEMBER 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276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Garamond"/>
              </a:rPr>
              <a:t>Tarea # 27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3:04:47Z</dcterms:created>
  <dc:creator>Helen Zumaeta</dc:creator>
  <dc:description/>
  <dc:language>en-US</dc:language>
  <cp:lastModifiedBy>Helen Zumaeta</cp:lastModifiedBy>
  <dcterms:modified xsi:type="dcterms:W3CDTF">2011-12-06T23:55:11Z</dcterms:modified>
  <cp:revision>5</cp:revision>
  <dc:subject/>
  <dc:title>Me llamo __________ Clase 7 IM La fecha es el 6 de diciembre del 2011</dc:title>
</cp:coreProperties>
</file>